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8"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38C46-2A5F-430E-A29E-205EF8418EC0}"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4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1"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2"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90941-20A9-47C5-A8DE-5C6CBE293E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gle Earth combines the power of Google Search with satellite imagery, maps, terrain and 3D buildings to put the world's geographic information at your fingertips.- Fly to your house. Just type in an address, press Search, and you’ll zoom right in.  - Search for schools, parks, restaurants, and hotels. Get driving directions.  - Tilt and rotate the view to see 3D terrain and buildings.  - Save and share your searches and favorites.</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2B535-77C1-43C3-985E-7818FB467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the parts are called – termin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to navig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earch for pla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an, Zoom &amp; Ti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ow to tour a river, road or cany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lows you to choose what information you want to see OVER top of the current vie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elect (and deselect) the checkboxes to add or remove 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yers with small plus signs have more layers within them.  Click on the plus sign to see the sublay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ma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ow to add information, photo and weblink to a placema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80B64-4AFF-47BE-9741-816553797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ours allow you to fly from one location to anot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ace, save and sh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 existing tour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F7FFC-2E14-4433-A99D-52CE41E49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layers, click Street Vie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ittle camera indicates that a photo or street view is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ght click on any photo icon to save that Street View to the Places pa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0715B-0201-4EE9-88F9-4E588DFDB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milar Search – great for ELL!!!  Allows you to search for images using pictures.  Click ‘Similar Images’ link under any image to find other images that may look like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ated Search – Google suggests related searches to help find information more quickly</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B429E-247D-412C-91FA-BC24EB3CA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s – Advanced Sear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Size to Lar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Usage Rights to Labeled for Reuse</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92A6A-0CF3-48CF-8FEE-21A0408C9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tes with Im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Previe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ed Sear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pping Tool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77246-A6B6-434B-B095-77D18C23B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d, Squared, Scholar, Cust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208D2-CE36-4707-ACC8-9ACB9D3AD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2BD26-4525-4667-AF00-D92E7F915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free, web-based word processor, spreadsheet and presentation too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s you to create and edit documents from anywhere and collaborate with multiple people at the same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cuments are saved online and can be accessed from anywhere with an Internet conne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ltiple people can work together on the same document, there is no need to email documents and revisions back and forth.  Students can collaborate with people in your class or all over the worl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can work from both home and school and all documents are stored securely online at Google.  Students do not need word processing or spreadsheet software loaded on home computer, software is housed at Google.co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 is saved automatically at regular intervals.  Each change is tracked and allows the teacher to monitor progress of each individual and their contributions.  No more ‘lost pap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Y IMPORTANT – have students include the teacher as a collaborator so that you can track progress, review and make comments at any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4D229-84A2-4048-802A-CFF4373CA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create a survey or a poll in a few simple steps and the respondents’ data appears in a spreadsheet as they complete the for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import an existing PowerPoint or create a new one with images, videos and formats.  You can then publish on your website or wiki to allow access for 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presentations, you can have all students access on individual computers to heighten engagement of 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7973C-5BC9-42E2-8A2A-E505C8FAD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25DE5-B144-4EA0-9D85-9CD56DFC8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71B7-419B-45D3-AC90-3D85F35D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D043-2EBB-4A80-89CF-2C5CA8BFF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7B03-15E6-4DA4-AEE7-F51B327DC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0E2D2-3230-43F3-85EB-FFD8B09B1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E2577-DF13-422F-8878-F77446118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98C8-9D5B-4D98-978F-88C888B7E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16C1B-EE24-410F-80C9-87BC951C7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D0754-507D-4770-8E04-BF09CC09D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7F0D7-3A40-47E2-B917-D50831A82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7D68-4A48-4ACE-A98D-A34BB0E96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B329-95C4-4B4B-ADA5-98B697AE1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38FF0-FCC9-43BD-AD4D-B2B4C4553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C0E33-0524-4934-AD4C-9E3E1667B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9F4DF-6587-4FF5-9874-746137081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747B3-6D47-4F9D-8D27-FC73F325C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749A6-AF47-40B9-8C08-F51382E84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1B18CC-A7CA-4ABE-A5C5-1E53BEB8C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6148F-C2C7-43B3-AD7E-F9DFE0E0C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E1EC5-2D06-4CD0-8130-4A20592D6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85A7D-45BF-4052-8F9F-1DE9EF839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BB494-FBC0-4417-8CD8-4D60B64D8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CECD0-F321-4B93-9FB9-2862DADC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FD3BD-A999-4032-A8AF-07746014F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970D9-3C90-4AFD-94E8-0D7FC20C6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48FB6-C4DA-4BF2-880A-98929AB22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FA9DB-D821-4E1D-ADAF-619E96DD9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496AF-4F45-4E78-A5ED-A612664FF0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43C45-1C10-4D40-9777-BCFD0F636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524FFF-2AA3-4B8F-AE9A-32A8014DEC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142285-7D70-422C-8893-D291A9B5E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2C631-A8CA-4804-B084-519CA83A9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BE91C-7B3D-42D9-9067-7B7C6533E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61DA-3ECA-4CCA-AD55-710ADA84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A0BA1-6CEC-41E9-A990-F96AA70A8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33147-F605-427F-97C8-D7330B1C8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FDFC8-3AEE-4CCB-8C6B-32523C5A0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17DB1-42F8-467B-96AE-BAD5782A8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3A640-C17F-407E-BDFD-BFAC48CC5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C08D4-03F0-484A-A745-C2C7EF694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4BCEB-B2A5-498A-8D0D-00E9B76BB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B34613-3575-4D1D-80D3-91B2E5E588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1050FB-920C-4562-A2EB-2583A4797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806AB-76C5-433C-AA45-4705185B1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3B25-BE23-4C26-AD78-D32E3BD5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BAB83-3B64-49F9-8B99-8B88EF301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EB183-C6F9-4817-88AB-CA3603321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C132F3-16AA-47BC-BF37-D9C08A9B2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E26117-5175-442F-9723-FBBE814526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DF33E-38BD-4ABD-A1EF-4DB822BED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44936-71B0-43CA-8579-8CE67CF9D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38A9B-EEB0-4883-AA39-364160A4F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EE8D1-4004-45D4-850D-B344E2BAA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33F03-CA52-4DA9-806D-5592CA22A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E65A3-7CB1-42C3-B75D-12D6DFA6F5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6F373-65FE-4540-A0FE-5506DAA4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7BC0C5-2B33-472E-8FD3-0CABD6CEC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96171A-9A4A-4E25-8AC0-9BC8726F56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5493F-0F4A-457F-B550-C8A21EFA0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8A16FC-E742-4E2E-A876-CD2963C55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4FB16-E998-472B-AAF2-D2D2436E2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133377-7E21-4D11-9A00-D30E95E9D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C858F9-1925-4384-95DA-E2B8C472F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3DA52-FDD8-46FE-BF5C-4AA40C61C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E57F6-6659-44AD-A360-CC4E9C551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29147-A292-4335-B8CB-8BE000127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D0BA-F4FE-49F1-A7A3-4B97F800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786672-84A8-4207-AF27-ECC98202BE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A7CE2-A768-417A-B4BC-336EF09B8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4ED8D3-B90A-4098-88A5-B7198F94F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E4D795-6203-47A4-92A1-8B09ADF92F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8A72C-4200-4453-AE62-E52499B54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D6634-34F3-46F4-A4A6-34B23679C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BD2A5-9493-4BDB-A57B-603A4F650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33665F-6680-4221-91C1-491349138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14F87-853E-4127-A34F-C1260F8C4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7002B-63DF-4717-853F-4C09D338F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1855-CFA4-4486-9909-623C12FD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E6C02-8213-47D4-B40B-98C18A327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EACDA-1D0B-415B-9213-9A057C8FC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D4992-7DB9-4907-A967-3E80E9F87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770E50-93E7-4021-8DEF-0D30F98992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C93CCE-5A77-40A4-B31D-8DD4E3A34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C0DE0F-9AC7-4732-8A47-6DAFAF9D9A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27BBD-94F1-49ED-817A-FCE448CDB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19233-B656-4082-821C-6684C997BC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77BC1-B031-4543-AAE3-7D7087374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E7582-4B69-4F2D-9041-29AFB1EB5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297C-EEA3-4F9F-A677-90F937469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CC5E5E-C47B-403E-8D5F-FDE9C496C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EADB4-945A-42F0-9DAB-CE4571EBF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2F73A-2354-4291-8B6C-09F4F133A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2D5AF-E956-44C5-9869-5D4015151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DD777-B235-4EC3-A8AB-8E86A485B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B0EBB1-A3DF-416B-93A0-310133988A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559FF3-ADFB-407F-ADC4-67AA12B5BA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0DD82-B48F-4A78-B86F-B6809496C60F}"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62F5F-C6CF-4ECE-9B76-24C3BB9D6B0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746CC-BA76-4709-A8A4-70E7B6C6BC79}" type="datetime">
              <a:rPr b="0" lang="en-US" sz="1000" spc="-1" strike="noStrike">
                <a:solidFill>
                  <a:srgbClr val="ffffff"/>
                </a:solidFill>
                <a:latin typeface="Lucida Sans Unicode"/>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8363C-A139-49C0-ABFD-0E24DDC991C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E247C-4D1E-4580-9CEC-067BA2838E5F}"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7C838-02A8-46AB-9EBA-B904B53214B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50605-05F4-4379-94D2-3C025A31243E}"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DF120-D3FF-4274-A761-11441BE14E8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A3D80-77CC-40D5-8D5A-F9005C5BEA38}"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DE8DA-11AC-4C9C-9BFD-7FD0B580FE9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F7DC6-BB26-426B-8546-3EDC6ADDF263}"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B8EE6-C24B-4E45-9842-EEDE05D3BD4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2AC80-2217-4840-BD42-5DCD8DB8ED37}"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C4053-2598-45E8-8CFB-0CC8385DA26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9EE3A-DF4B-4A8C-ACBF-1197C7EAF56A}"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08796-1EA3-48DE-96D3-EFCEC53EA77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9C37A-B642-4F2F-8B66-7DBB955D3E22}"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682560" y="1749600"/>
            <a:ext cx="8491680" cy="2060280"/>
          </a:xfrm>
          <a:prstGeom prst="rect">
            <a:avLst/>
          </a:prstGeom>
          <a:ln w="0">
            <a:noFill/>
          </a:ln>
        </p:spPr>
      </p:pic>
      <p:sp>
        <p:nvSpPr>
          <p:cNvPr id="42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 Trish Klinger</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450720" y="268200"/>
            <a:ext cx="8242560" cy="1158840"/>
          </a:xfrm>
          <a:prstGeom prst="rect">
            <a:avLst/>
          </a:prstGeom>
          <a:ln w="0">
            <a:noFill/>
          </a:ln>
        </p:spPr>
      </p:pic>
      <p:sp>
        <p:nvSpPr>
          <p:cNvPr id="446" name="TextBox 3"/>
          <p:cNvSpPr/>
          <p:nvPr/>
        </p:nvSpPr>
        <p:spPr>
          <a:xfrm>
            <a:off x="457200" y="141768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ail spreadshee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blis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ification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viga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 and the Univer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9" name="Title 1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it. Tou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medi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ced</a:t>
            </a:r>
            <a:endParaRPr b="0" lang="en-US" sz="2700" spc="-1" strike="noStrike">
              <a:solidFill>
                <a:srgbClr val="000000"/>
              </a:solidFill>
              <a:latin typeface="Lucida Sans Unicode"/>
            </a:endParaRPr>
          </a:p>
        </p:txBody>
      </p:sp>
      <p:pic>
        <p:nvPicPr>
          <p:cNvPr id="45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eet Vie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ot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de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arch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rth</a:t>
            </a:r>
            <a:endParaRPr b="0" lang="en-US" sz="2700" spc="-1" strike="noStrike">
              <a:solidFill>
                <a:srgbClr val="000000"/>
              </a:solidFill>
              <a:latin typeface="Lucida Sans Unicode"/>
            </a:endParaRPr>
          </a:p>
        </p:txBody>
      </p:sp>
      <p:pic>
        <p:nvPicPr>
          <p:cNvPr id="45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Title 1" descr=""/>
          <p:cNvPicPr/>
          <p:nvPr/>
        </p:nvPicPr>
        <p:blipFill>
          <a:blip r:embed="rId2"/>
          <a:stretch/>
        </p:blipFill>
        <p:spPr>
          <a:xfrm>
            <a:off x="450720" y="268200"/>
            <a:ext cx="8242560" cy="1158840"/>
          </a:xfrm>
          <a:prstGeom prst="rect">
            <a:avLst/>
          </a:prstGeom>
          <a:ln w="0">
            <a:noFill/>
          </a:ln>
        </p:spPr>
      </p:pic>
      <p:sp>
        <p:nvSpPr>
          <p:cNvPr id="426" name="TextBox 3"/>
          <p:cNvSpPr/>
          <p:nvPr/>
        </p:nvSpPr>
        <p:spPr>
          <a:xfrm>
            <a:off x="457200" y="1725480"/>
            <a:ext cx="7408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Teacher in West Shore School Distr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Technology Coach for 2 year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Master’s Degree in Educational Leadership – July 2007</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Enrolled in Bloomsburg University’s Instructional Technology Master’s Program – anticipated graduation Summer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182520" y="1170000"/>
            <a:ext cx="8788320" cy="2106720"/>
          </a:xfrm>
          <a:prstGeom prst="rect">
            <a:avLst/>
          </a:prstGeom>
          <a:ln w="0">
            <a:noFill/>
          </a:ln>
        </p:spPr>
      </p:pic>
      <p:pic>
        <p:nvPicPr>
          <p:cNvPr id="428" name="Picture 5" descr=""/>
          <p:cNvPicPr/>
          <p:nvPr/>
        </p:nvPicPr>
        <p:blipFill>
          <a:blip r:embed="rId2"/>
          <a:stretch/>
        </p:blipFill>
        <p:spPr>
          <a:xfrm>
            <a:off x="182520" y="1092240"/>
            <a:ext cx="8788320" cy="3700440"/>
          </a:xfrm>
          <a:prstGeom prst="rect">
            <a:avLst/>
          </a:prstGeom>
          <a:ln w="0">
            <a:noFill/>
          </a:ln>
        </p:spPr>
      </p:pic>
      <p:sp>
        <p:nvSpPr>
          <p:cNvPr id="429"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
          <p:cNvPicPr/>
          <p:nvPr/>
        </p:nvPicPr>
        <p:blipFill>
          <a:blip r:embed="rId1"/>
          <a:stretch/>
        </p:blipFill>
        <p:spPr>
          <a:xfrm>
            <a:off x="452520" y="1368360"/>
            <a:ext cx="8280360" cy="522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182520" y="1170000"/>
            <a:ext cx="8788320" cy="2106720"/>
          </a:xfrm>
          <a:prstGeom prst="rect">
            <a:avLst/>
          </a:prstGeom>
          <a:ln w="0">
            <a:noFill/>
          </a:ln>
        </p:spPr>
      </p:pic>
      <p:pic>
        <p:nvPicPr>
          <p:cNvPr id="432" name="Picture 5" descr=""/>
          <p:cNvPicPr/>
          <p:nvPr/>
        </p:nvPicPr>
        <p:blipFill>
          <a:blip r:embed="rId2"/>
          <a:stretch/>
        </p:blipFill>
        <p:spPr>
          <a:xfrm>
            <a:off x="182520" y="1092240"/>
            <a:ext cx="8788320" cy="3700440"/>
          </a:xfrm>
          <a:prstGeom prst="rect">
            <a:avLst/>
          </a:prstGeom>
          <a:ln w="0">
            <a:noFill/>
          </a:ln>
        </p:spPr>
      </p:pic>
      <p:sp>
        <p:nvSpPr>
          <p:cNvPr id="433"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82520" y="1170000"/>
            <a:ext cx="8788320" cy="2106720"/>
          </a:xfrm>
          <a:prstGeom prst="rect">
            <a:avLst/>
          </a:prstGeom>
          <a:ln w="0">
            <a:noFill/>
          </a:ln>
        </p:spPr>
      </p:pic>
      <p:pic>
        <p:nvPicPr>
          <p:cNvPr id="435" name="Picture 5" descr=""/>
          <p:cNvPicPr/>
          <p:nvPr/>
        </p:nvPicPr>
        <p:blipFill>
          <a:blip r:embed="rId2"/>
          <a:stretch/>
        </p:blipFill>
        <p:spPr>
          <a:xfrm>
            <a:off x="182520" y="1092240"/>
            <a:ext cx="8788320" cy="3700440"/>
          </a:xfrm>
          <a:prstGeom prst="rect">
            <a:avLst/>
          </a:prstGeom>
          <a:ln w="0">
            <a:noFill/>
          </a:ln>
        </p:spPr>
      </p:pic>
      <p:sp>
        <p:nvSpPr>
          <p:cNvPr id="436" name="TextBox 8"/>
          <p:cNvSpPr/>
          <p:nvPr/>
        </p:nvSpPr>
        <p:spPr>
          <a:xfrm>
            <a:off x="182520" y="4792680"/>
            <a:ext cx="87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Google Search Secrets Th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Title 1" descr=""/>
          <p:cNvPicPr/>
          <p:nvPr/>
        </p:nvPicPr>
        <p:blipFill>
          <a:blip r:embed="rId2"/>
          <a:stretch/>
        </p:blipFill>
        <p:spPr>
          <a:xfrm>
            <a:off x="719280" y="1054080"/>
            <a:ext cx="8107200" cy="2060640"/>
          </a:xfrm>
          <a:prstGeom prst="rect">
            <a:avLst/>
          </a:prstGeom>
          <a:ln w="0">
            <a:noFill/>
          </a:ln>
        </p:spPr>
      </p:pic>
      <p:sp>
        <p:nvSpPr>
          <p:cNvPr id="438"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Forms, Spreadsheets, Docs and more!</a:t>
            </a: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Vertical Title 3" descr=""/>
          <p:cNvPicPr/>
          <p:nvPr/>
        </p:nvPicPr>
        <p:blipFill>
          <a:blip r:embed="rId1"/>
          <a:stretch/>
        </p:blipFill>
        <p:spPr>
          <a:xfrm>
            <a:off x="450720" y="268200"/>
            <a:ext cx="8242560" cy="1158840"/>
          </a:xfrm>
          <a:prstGeom prst="rect">
            <a:avLst/>
          </a:prstGeom>
          <a:ln w="0">
            <a:noFill/>
          </a:ln>
        </p:spPr>
      </p:pic>
      <p:sp>
        <p:nvSpPr>
          <p:cNvPr id="440" name="TextBox 10"/>
          <p:cNvSpPr/>
          <p:nvPr/>
        </p:nvSpPr>
        <p:spPr>
          <a:xfrm>
            <a:off x="457200" y="156996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Collaborate in Real T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tudent submission online</a:t>
            </a:r>
            <a:endParaRPr b="0" lang="en-US" sz="1800" spc="-1" strike="noStrike">
              <a:solidFill>
                <a:srgbClr val="000000"/>
              </a:solidFill>
              <a:latin typeface="Arial"/>
            </a:endParaRPr>
          </a:p>
        </p:txBody>
      </p:sp>
      <p:pic>
        <p:nvPicPr>
          <p:cNvPr id="441" name="Title 1" descr=""/>
          <p:cNvPicPr/>
          <p:nvPr/>
        </p:nvPicPr>
        <p:blipFill>
          <a:blip r:embed="rId2"/>
          <a:stretch/>
        </p:blipFill>
        <p:spPr>
          <a:xfrm>
            <a:off x="450720" y="2687760"/>
            <a:ext cx="8242560" cy="1158840"/>
          </a:xfrm>
          <a:prstGeom prst="rect">
            <a:avLst/>
          </a:prstGeom>
          <a:ln w="0">
            <a:noFill/>
          </a:ln>
        </p:spPr>
      </p:pic>
      <p:sp>
        <p:nvSpPr>
          <p:cNvPr id="442" name="TextBox 3"/>
          <p:cNvSpPr/>
          <p:nvPr/>
        </p:nvSpPr>
        <p:spPr>
          <a:xfrm>
            <a:off x="457200" y="38401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urvey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ign u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450720" y="268200"/>
            <a:ext cx="8242560" cy="1158840"/>
          </a:xfrm>
          <a:prstGeom prst="rect">
            <a:avLst/>
          </a:prstGeom>
          <a:ln w="0">
            <a:noFill/>
          </a:ln>
        </p:spPr>
      </p:pic>
      <p:sp>
        <p:nvSpPr>
          <p:cNvPr id="444" name="TextBox 3"/>
          <p:cNvSpPr/>
          <p:nvPr/>
        </p:nvSpPr>
        <p:spPr>
          <a:xfrm>
            <a:off x="736200" y="1916280"/>
            <a:ext cx="2704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Final touch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Forms Respons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Spreadsheets – Shar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22:11:50Z</dcterms:created>
  <dc:creator>Teacher</dc:creator>
  <dc:description/>
  <dc:language>en-US</dc:language>
  <cp:lastModifiedBy>Teacher</cp:lastModifiedBy>
  <dcterms:modified xsi:type="dcterms:W3CDTF">2010-10-11T22:57:11Z</dcterms:modified>
  <cp:revision>6</cp:revision>
  <dc:subject/>
  <dc:title>Get to Know Google! </dc:title>
</cp:coreProperties>
</file>